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8BB-9F41-4020-B7D2-E4DB05D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E4E-E562-41BF-A44F-431409E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974-E4AC-4897-ACBF-42BB9126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1D4-BCA9-460A-B677-94EAFE4F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405-F1E3-41EF-B5A8-4FC02B0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BDD-D5C5-4344-A911-8E8F17A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C83-771C-475F-8C53-1817297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971-23AF-4A21-B0C5-20D8ECD8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10A-F19A-41AE-A081-9289892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D50-5E5C-47BC-8BA7-5CB13C6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598-61DD-4F8D-B40A-80447C0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CF-E1A8-4D0A-8D14-79411AE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F7D-3CB5-4975-BDCC-05F8214920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Лекция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2880" y="1925640"/>
            <a:ext cx="8058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руемость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ал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76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3360" y="1263240"/>
            <a:ext cx="8215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                 функции                        в точке                    также представляют в вид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         называют дифференциалом   переменной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числяемый в точке           по прави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952A-2C2A-4489-8308-E59C7BE63A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3189240" y="1144440"/>
          <a:ext cx="541440" cy="4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144440"/>
                    <a:ext cx="5414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353200" y="1084320"/>
          <a:ext cx="13824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3200" y="1084320"/>
                    <a:ext cx="1382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8238960" y="1204920"/>
          <a:ext cx="31608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8960" y="1204920"/>
                    <a:ext cx="316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2887560" y="2014560"/>
          <a:ext cx="27068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014560"/>
                    <a:ext cx="2706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2"/>
          <p:cNvGraphicFramePr/>
          <p:nvPr/>
        </p:nvGraphicFramePr>
        <p:xfrm>
          <a:off x="1325520" y="2406600"/>
          <a:ext cx="611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5520" y="2406600"/>
                    <a:ext cx="61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4"/>
          <p:cNvGraphicFramePr/>
          <p:nvPr/>
        </p:nvGraphicFramePr>
        <p:xfrm>
          <a:off x="7458120" y="2406600"/>
          <a:ext cx="37296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8120" y="2406600"/>
                    <a:ext cx="37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3610080" y="3008160"/>
          <a:ext cx="3744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0080" y="3008160"/>
                    <a:ext cx="374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905040" y="3368520"/>
          <a:ext cx="143964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5040" y="3368520"/>
                    <a:ext cx="1439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2527200" y="3310200"/>
            <a:ext cx="61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независимая 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905040" y="4030560"/>
          <a:ext cx="25207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5040" y="4030560"/>
                    <a:ext cx="252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22"/>
          <p:cNvGraphicFramePr/>
          <p:nvPr/>
        </p:nvGraphicFramePr>
        <p:xfrm>
          <a:off x="4692600" y="4091040"/>
          <a:ext cx="3747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92600" y="40910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1"/>
          <p:cNvGraphicFramePr/>
          <p:nvPr/>
        </p:nvGraphicFramePr>
        <p:xfrm>
          <a:off x="2106720" y="4871880"/>
          <a:ext cx="376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06720" y="4871880"/>
                    <a:ext cx="376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564000" y="403164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5108040" y="40914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независ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23720" y="47512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менной       . Из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леду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1"/>
          <p:cNvGraphicFramePr/>
          <p:nvPr/>
        </p:nvGraphicFramePr>
        <p:xfrm>
          <a:off x="3549600" y="3429000"/>
          <a:ext cx="37476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9600" y="34290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4451400" y="4871880"/>
          <a:ext cx="2706480" cy="513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1400" y="4871880"/>
                    <a:ext cx="2706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3249720" y="5353200"/>
                <a:ext cx="16635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6"/>
          <p:cNvSpPr/>
          <p:nvPr/>
        </p:nvSpPr>
        <p:spPr>
          <a:xfrm>
            <a:off x="723960" y="963720"/>
            <a:ext cx="7937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ьмем на графике функции                      точку                               и        проведем касательную  (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. Дадим аргументу         при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гда  функция получит приращение                                               .  Проведем касательную к кривой                  в точке                            , которая образует с осью абсцисс   угол              ,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5160" y="301320"/>
            <a:ext cx="715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</a:rPr>
              <a:t>Геометрический смысл дифференц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7481-365C-4ADD-AD91-AE6B4A86EA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6075360" y="1023840"/>
          <a:ext cx="15638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023840"/>
                    <a:ext cx="15638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241128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95280" y="5805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050920" y="314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086520" y="580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4"/>
          <p:cNvGraphicFramePr/>
          <p:nvPr/>
        </p:nvGraphicFramePr>
        <p:xfrm>
          <a:off x="1187280" y="3522600"/>
          <a:ext cx="11527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22600"/>
                    <a:ext cx="115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476360" y="5013360"/>
          <a:ext cx="7207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013360"/>
                    <a:ext cx="720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8"/>
          <p:cNvGraphicFramePr/>
          <p:nvPr/>
        </p:nvGraphicFramePr>
        <p:xfrm>
          <a:off x="2771640" y="5661000"/>
          <a:ext cx="430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661000"/>
                    <a:ext cx="430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0"/>
          <p:cNvGraphicFramePr/>
          <p:nvPr/>
        </p:nvGraphicFramePr>
        <p:xfrm>
          <a:off x="4572000" y="5734080"/>
          <a:ext cx="115092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734080"/>
                    <a:ext cx="1150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22"/>
          <p:cNvSpPr/>
          <p:nvPr/>
        </p:nvSpPr>
        <p:spPr>
          <a:xfrm>
            <a:off x="2411280" y="5300640"/>
            <a:ext cx="505080" cy="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2916360" y="5300640"/>
            <a:ext cx="0" cy="50472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2411280" y="371628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5003640" y="3716280"/>
            <a:ext cx="0" cy="20890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2050920" y="3213000"/>
            <a:ext cx="3097440" cy="223200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951" h="1406">
                <a:moveTo>
                  <a:pt x="1951" y="0"/>
                </a:moveTo>
                <a:cubicBezTo>
                  <a:pt x="1928" y="106"/>
                  <a:pt x="1906" y="212"/>
                  <a:pt x="1815" y="363"/>
                </a:cubicBezTo>
                <a:cubicBezTo>
                  <a:pt x="1724" y="514"/>
                  <a:pt x="1589" y="756"/>
                  <a:pt x="1407" y="907"/>
                </a:cubicBezTo>
                <a:cubicBezTo>
                  <a:pt x="1225" y="1058"/>
                  <a:pt x="960" y="1187"/>
                  <a:pt x="726" y="1270"/>
                </a:cubicBezTo>
                <a:cubicBezTo>
                  <a:pt x="492" y="1353"/>
                  <a:pt x="246" y="1379"/>
                  <a:pt x="0" y="140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179280" y="4581360"/>
            <a:ext cx="5977080" cy="1368720"/>
          </a:xfrm>
          <a:prstGeom prst="line">
            <a:avLst/>
          </a:prstGeom>
          <a:ln w="25560">
            <a:solidFill>
              <a:srgbClr val="555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3645000" y="5172120"/>
            <a:ext cx="85680" cy="216000"/>
          </a:xfrm>
          <a:custGeom>
            <a:avLst/>
            <a:gdLst>
              <a:gd name="textAreaLeft" fmla="*/ 0 w 85680"/>
              <a:gd name="textAreaRight" fmla="*/ 85680 w 856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4" h="136">
                <a:moveTo>
                  <a:pt x="0" y="0"/>
                </a:moveTo>
                <a:cubicBezTo>
                  <a:pt x="19" y="11"/>
                  <a:pt x="38" y="22"/>
                  <a:pt x="46" y="45"/>
                </a:cubicBezTo>
                <a:cubicBezTo>
                  <a:pt x="54" y="68"/>
                  <a:pt x="50" y="102"/>
                  <a:pt x="46" y="136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399840" y="50522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 flipH="1">
            <a:off x="2484360" y="3357720"/>
            <a:ext cx="295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5895360" y="4150440"/>
            <a:ext cx="4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55541c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2701800" y="4941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284328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493236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406600" y="535320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4992840" y="3728880"/>
            <a:ext cx="0" cy="10828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979880" y="47991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4995720" y="468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9"/>
              <p:cNvSpPr txBox="1"/>
              <p:nvPr/>
            </p:nvSpPr>
            <p:spPr>
              <a:xfrm>
                <a:off x="6315120" y="2647800"/>
                <a:ext cx="13780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Box 40"/>
          <p:cNvSpPr/>
          <p:nvPr/>
        </p:nvSpPr>
        <p:spPr>
          <a:xfrm flipH="1">
            <a:off x="5113440" y="51339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4"/>
          <p:cNvSpPr/>
          <p:nvPr/>
        </p:nvSpPr>
        <p:spPr>
          <a:xfrm>
            <a:off x="4979880" y="5292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4992840" y="35402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6435720" y="3008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7"/>
              <p:cNvSpPr txBox="1"/>
              <p:nvPr/>
            </p:nvSpPr>
            <p:spPr>
              <a:xfrm>
                <a:off x="5654520" y="1444680"/>
                <a:ext cx="42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8"/>
              <p:cNvSpPr txBox="1"/>
              <p:nvPr/>
            </p:nvSpPr>
            <p:spPr>
              <a:xfrm>
                <a:off x="7699320" y="144468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9"/>
              <p:cNvSpPr txBox="1"/>
              <p:nvPr/>
            </p:nvSpPr>
            <p:spPr>
              <a:xfrm>
                <a:off x="4952880" y="1805040"/>
                <a:ext cx="2603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Object 6"/>
          <p:cNvGraphicFramePr/>
          <p:nvPr/>
        </p:nvGraphicFramePr>
        <p:xfrm>
          <a:off x="4091040" y="1023840"/>
          <a:ext cx="108252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91040" y="102384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1"/>
          <p:cNvGraphicFramePr/>
          <p:nvPr/>
        </p:nvGraphicFramePr>
        <p:xfrm>
          <a:off x="4272120" y="2225520"/>
          <a:ext cx="1082520" cy="4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2120" y="222552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2"/>
          <p:cNvGraphicFramePr/>
          <p:nvPr/>
        </p:nvGraphicFramePr>
        <p:xfrm>
          <a:off x="6375240" y="2282760"/>
          <a:ext cx="156384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5240" y="2282760"/>
                    <a:ext cx="1563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56"/>
              <p:cNvSpPr txBox="1"/>
              <p:nvPr/>
            </p:nvSpPr>
            <p:spPr>
              <a:xfrm>
                <a:off x="5322960" y="2776680"/>
                <a:ext cx="4334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ABE-B6D9-4740-BA43-01F73E630C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41380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045080" y="51562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0"/>
              <p:cNvSpPr txBox="1"/>
              <p:nvPr/>
            </p:nvSpPr>
            <p:spPr>
              <a:xfrm>
                <a:off x="1265400" y="1324080"/>
                <a:ext cx="6494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Box 40"/>
          <p:cNvSpPr/>
          <p:nvPr/>
        </p:nvSpPr>
        <p:spPr>
          <a:xfrm>
            <a:off x="1325520" y="60336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ямоуго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треугольнике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1084320" y="2286000"/>
          <a:ext cx="27064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286000"/>
                    <a:ext cx="2706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3952800" y="2276640"/>
                <a:ext cx="2200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Box 43"/>
          <p:cNvSpPr/>
          <p:nvPr/>
        </p:nvSpPr>
        <p:spPr>
          <a:xfrm>
            <a:off x="1144440" y="3129120"/>
            <a:ext cx="68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,    дифференциал функции есть приращение ординаты касательной, проведенной к граф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функции                      в  данной точке, когда аргумент          получает приращение              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347920" y="4030560"/>
          <a:ext cx="1082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7920" y="403056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097760" y="4030560"/>
                <a:ext cx="42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3670200" y="445140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44320"/>
            <a:ext cx="82519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81b"/>
                </a:solidFill>
                <a:uFillTx/>
                <a:latin typeface="Calibri"/>
              </a:rPr>
              <a:t>Т е о р е м а 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 инвариантности формы дифференци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Пусть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дифференцируема в точке      ,                                                                а функция                            независимой переменной       дифференцируема в соответствующей точке       . Тогда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81b"/>
                </a:solidFill>
                <a:latin typeface="Calibri"/>
              </a:rPr>
              <a:t>З а м е ч а н и е 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иближенных вычислений часто используют свой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7F2-273F-48C7-9EB7-2C54B88296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473800" y="2046240"/>
          <a:ext cx="12967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046240"/>
                    <a:ext cx="129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4390920" y="2706840"/>
          <a:ext cx="374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27068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2347920" y="3129120"/>
          <a:ext cx="165564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7920" y="3129120"/>
                    <a:ext cx="1655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7699320" y="3187800"/>
          <a:ext cx="3747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9320" y="31878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4"/>
          <p:cNvGraphicFramePr/>
          <p:nvPr/>
        </p:nvGraphicFramePr>
        <p:xfrm>
          <a:off x="6796080" y="3728880"/>
          <a:ext cx="3747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6080" y="37288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6"/>
          <p:cNvGraphicFramePr/>
          <p:nvPr/>
        </p:nvGraphicFramePr>
        <p:xfrm>
          <a:off x="2768760" y="4694400"/>
          <a:ext cx="446400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8760" y="4694400"/>
                    <a:ext cx="4464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8"/>
          <p:cNvGraphicFramePr/>
          <p:nvPr/>
        </p:nvGraphicFramePr>
        <p:xfrm>
          <a:off x="4211640" y="5627520"/>
          <a:ext cx="15127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5627520"/>
                    <a:ext cx="15127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34F-7968-4B2C-ABA0-CE236571C9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ПРОИЗВОДНЫЕ  ВЫСШИХ  ПОРЯД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ные второго, третьего  и т.д. поряд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                       в точке         определяются по правил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625760" y="2166840"/>
          <a:ext cx="132228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166840"/>
                    <a:ext cx="13222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151160" y="216684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216684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9"/>
          <p:cNvGraphicFramePr/>
          <p:nvPr/>
        </p:nvGraphicFramePr>
        <p:xfrm>
          <a:off x="2484360" y="2781360"/>
          <a:ext cx="295128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781360"/>
                    <a:ext cx="2951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1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2484360" y="3429000"/>
          <a:ext cx="30243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3429000"/>
                    <a:ext cx="3024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2411280" y="4437000"/>
          <a:ext cx="6193080" cy="11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4437000"/>
                    <a:ext cx="6193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253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пределение .</a:t>
            </a:r>
            <a:r>
              <a:rPr b="1" lang="ru-RU" sz="32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1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Если функция                        имеет при                            предел                                  , равный </a:t>
            </a:r>
            <a:r>
              <a:rPr b="0" i="1" lang="en-US" sz="2800" spc="-1" strike="noStrike">
                <a:solidFill>
                  <a:srgbClr val="071215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то                  ее можно представить в виде суммы этого числа </a:t>
            </a:r>
            <a:r>
              <a:rPr b="1" i="1" lang="en-US" sz="2800" spc="-1" strike="noStrike">
                <a:solidFill>
                  <a:srgbClr val="102c34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ы                                      при                                              , 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Объект 3"/>
          <p:cNvGraphicFramePr/>
          <p:nvPr/>
        </p:nvGraphicFramePr>
        <p:xfrm>
          <a:off x="4692600" y="1565280"/>
          <a:ext cx="8143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565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Объект 4"/>
          <p:cNvGraphicFramePr/>
          <p:nvPr/>
        </p:nvGraphicFramePr>
        <p:xfrm>
          <a:off x="6375240" y="2106720"/>
          <a:ext cx="9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106720"/>
                    <a:ext cx="9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Объект 5"/>
          <p:cNvGraphicFramePr/>
          <p:nvPr/>
        </p:nvGraphicFramePr>
        <p:xfrm>
          <a:off x="4272120" y="2527200"/>
          <a:ext cx="18540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2527200"/>
                    <a:ext cx="1854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Объект 6"/>
          <p:cNvGraphicFramePr/>
          <p:nvPr/>
        </p:nvGraphicFramePr>
        <p:xfrm>
          <a:off x="5113440" y="3368520"/>
          <a:ext cx="13762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3368520"/>
                    <a:ext cx="137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7"/>
          <p:cNvGraphicFramePr/>
          <p:nvPr/>
        </p:nvGraphicFramePr>
        <p:xfrm>
          <a:off x="1806480" y="5292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5292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Объект 8"/>
          <p:cNvGraphicFramePr/>
          <p:nvPr/>
        </p:nvGraphicFramePr>
        <p:xfrm>
          <a:off x="3129120" y="517212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517212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Объект 9"/>
          <p:cNvGraphicFramePr/>
          <p:nvPr/>
        </p:nvGraphicFramePr>
        <p:xfrm>
          <a:off x="3309840" y="3909960"/>
          <a:ext cx="126540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9840" y="3909960"/>
                    <a:ext cx="1265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Объект 10"/>
          <p:cNvGraphicFramePr/>
          <p:nvPr/>
        </p:nvGraphicFramePr>
        <p:xfrm>
          <a:off x="2166840" y="403056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6840" y="403056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Объект 11"/>
          <p:cNvGraphicFramePr/>
          <p:nvPr/>
        </p:nvGraphicFramePr>
        <p:xfrm>
          <a:off x="3309840" y="5713560"/>
          <a:ext cx="230364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9840" y="5713560"/>
                    <a:ext cx="23036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Объект 1"/>
          <p:cNvGraphicFramePr/>
          <p:nvPr/>
        </p:nvGraphicFramePr>
        <p:xfrm>
          <a:off x="5894280" y="475128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4280" y="4751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язь между существованием производной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 непрерывностью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204920"/>
            <a:ext cx="871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                имеет производную в  точке             ,  то она непрерывна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106720" y="2106720"/>
                <a:ext cx="5073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58920" y="2997360"/>
                <a:ext cx="210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932360" y="2827440"/>
                <a:ext cx="2476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AutoShape 10"/>
          <p:cNvSpPr/>
          <p:nvPr/>
        </p:nvSpPr>
        <p:spPr>
          <a:xfrm>
            <a:off x="4030560" y="31878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482760" y="4086360"/>
                <a:ext cx="4354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AutoShape 13"/>
          <p:cNvSpPr/>
          <p:nvPr/>
        </p:nvSpPr>
        <p:spPr>
          <a:xfrm rot="16200000">
            <a:off x="8209080" y="2925720"/>
            <a:ext cx="180720" cy="704880"/>
          </a:xfrm>
          <a:prstGeom prst="downArrow">
            <a:avLst>
              <a:gd name="adj1" fmla="val 50000"/>
              <a:gd name="adj2" fmla="val 37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2880" y="4992840"/>
                <a:ext cx="404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AutoShape 15"/>
          <p:cNvSpPr/>
          <p:nvPr/>
        </p:nvSpPr>
        <p:spPr>
          <a:xfrm>
            <a:off x="4451400" y="4572000"/>
            <a:ext cx="82440" cy="420840"/>
          </a:xfrm>
          <a:prstGeom prst="downArrow">
            <a:avLst>
              <a:gd name="adj1" fmla="val 50000"/>
              <a:gd name="adj2" fmla="val 379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948040" y="6014880"/>
                <a:ext cx="3641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AutoShape 19"/>
          <p:cNvSpPr/>
          <p:nvPr/>
        </p:nvSpPr>
        <p:spPr>
          <a:xfrm>
            <a:off x="4390920" y="5473800"/>
            <a:ext cx="142920" cy="395280"/>
          </a:xfrm>
          <a:prstGeom prst="downArrow">
            <a:avLst>
              <a:gd name="adj1" fmla="val 50000"/>
              <a:gd name="adj2" fmla="val 37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3970440" y="1263600"/>
          <a:ext cx="9619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0440" y="12636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1925640" y="168588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168588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мечани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234040" y="21067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86120" y="2587680"/>
                <a:ext cx="34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106720" y="31291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2647800" y="367020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234040" y="505296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227320" y="15048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2400" y="603000"/>
            <a:ext cx="8204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руемости функции</a:t>
            </a:r>
            <a:br>
              <a:rPr sz="2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а в некоторой окрестности точки          Функция                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ифференцируемо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точке                     если ее приращение представимо в виде  </a:t>
            </a:r>
            <a:br>
              <a:rPr sz="2200"/>
            </a:b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−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,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число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640" y="4090680"/>
            <a:ext cx="87757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исящее от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(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функция   более высокого порядк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сти чем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i="1" lang="en-US" sz="2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 → 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Т е о р е м а  2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ункция                       дифференцируема в точке               ,   то она непрерывна в этой точке.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тное утверждение невер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4632480" y="5232240"/>
          <a:ext cx="120312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5232240"/>
                    <a:ext cx="12031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1444680" y="5834160"/>
          <a:ext cx="90324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5834160"/>
                    <a:ext cx="903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1746360" y="2106720"/>
          <a:ext cx="9619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6360" y="2106720"/>
                    <a:ext cx="961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299440" y="2106720"/>
          <a:ext cx="6602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99440" y="2106720"/>
                    <a:ext cx="66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7699320" y="2647800"/>
          <a:ext cx="662040" cy="30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9320" y="26478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1685880" y="2647800"/>
          <a:ext cx="961920" cy="36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26478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240" y="182160"/>
            <a:ext cx="9144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                 является дифференцируемой в точ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 только тогда, когда она имеет производную в эт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казательство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функция                является дифференцируемой в точке              т.е. ее приращение можно представить в  виде       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   этого выражения на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2"/>
          <p:cNvGraphicFramePr/>
          <p:nvPr/>
        </p:nvGraphicFramePr>
        <p:xfrm>
          <a:off x="482760" y="1144440"/>
          <a:ext cx="66168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44440"/>
                    <a:ext cx="661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0"/>
          <p:cNvGraphicFramePr/>
          <p:nvPr/>
        </p:nvGraphicFramePr>
        <p:xfrm>
          <a:off x="2948040" y="542880"/>
          <a:ext cx="9619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54288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4813200" y="2346480"/>
          <a:ext cx="9622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3200" y="2346480"/>
                    <a:ext cx="962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09960" y="2948040"/>
          <a:ext cx="6620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9960" y="294804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542880" y="4451400"/>
                <a:ext cx="6997680" cy="20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f>
                              <m:num>
                                <m:r>
                                  <m:t xml:space="preserve">Δy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2760" y="4827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теперь  функция                       имеет производную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огда  имеет место следу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обозначить                            то   выражение          можно записать в фор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849840" y="603360"/>
          <a:ext cx="11588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03360"/>
                    <a:ext cx="11588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746360" y="126360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2636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48040" y="1444680"/>
                <a:ext cx="2295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65400" y="2827440"/>
                <a:ext cx="3911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878040" y="4210200"/>
                <a:ext cx="559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905040" y="4932360"/>
                <a:ext cx="3944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3"/>
          <p:cNvSpPr/>
          <p:nvPr/>
        </p:nvSpPr>
        <p:spPr>
          <a:xfrm flipH="1">
            <a:off x="3367800" y="3610080"/>
            <a:ext cx="181080" cy="600120"/>
          </a:xfrm>
          <a:prstGeom prst="downArrow">
            <a:avLst>
              <a:gd name="adj1" fmla="val 50000"/>
              <a:gd name="adj2" fmla="val 37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3129120" y="5533920"/>
                <a:ext cx="14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977160" y="5533920"/>
                <a:ext cx="48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30680" y="6134040"/>
                <a:ext cx="380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60" y="1600200"/>
            <a:ext cx="8961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функция              дифференцируема в некоторой точк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тогда ее приращение  в этой точке можно представить  в сл. вид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слагаемое            данного представления называется главной частью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раще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ная часть приращения          называется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ом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функции в точке         и обозначается символом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25640" y="2887560"/>
                <a:ext cx="33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47800" y="1685880"/>
                <a:ext cx="80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2760" y="2346480"/>
                <a:ext cx="387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932360" y="3549600"/>
                <a:ext cx="922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5894280" y="409104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15120" y="4751280"/>
                <a:ext cx="922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775480" y="517212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6120" y="5773680"/>
                <a:ext cx="151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A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030560" y="5773680"/>
                <a:ext cx="2025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12:28Z</dcterms:created>
  <dc:creator>Admin</dc:creator>
  <dc:description/>
  <dc:language>en-US</dc:language>
  <cp:lastModifiedBy>Пользователь</cp:lastModifiedBy>
  <dcterms:modified xsi:type="dcterms:W3CDTF">2018-07-01T12:34:22Z</dcterms:modified>
  <cp:revision>118</cp:revision>
  <dc:subject/>
  <dc:title>Лекция № 7</dc:title>
</cp:coreProperties>
</file>